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09F-A614-4641-8577-94B554DD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6CC-F61E-4452-B9B7-DF5C565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21733-54DD-4D31-9E5A-143A608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4BE6E-6CEA-4CE4-8C19-77B2CA9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9D7BC-F1BC-4A0D-AA88-8568CDA0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5FDA7-4D0F-4327-A652-DDB3EAD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86193-75BC-4CB9-91B3-C91CAF6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CBE12-53A4-4020-B29F-BE1E534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4E97B-00C6-4AB7-BCE3-7B849F67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350D1-C7FC-4B9D-BF70-BF8F5ED9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9480D-5D6A-41A4-B88C-D755CAAC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CAD93-C3D2-4986-86D0-1C9226B8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AB4-4D22-4BB5-8EBA-C39AB5DE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170DC-D851-4E28-9596-EAFB295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F7FDD-F942-454E-94FA-5D438515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599CD-27EA-4FDE-9354-F889BEE8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7D35D-4B2F-4BB4-A7B5-AF7DE305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5C33-25D5-4207-94D5-7E3AEB30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A2280-319F-4DC4-9E1E-A5064D3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CCD64-7431-4A63-9E29-39A4207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267C6-D312-4D37-A214-C6C2755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EED4B-5CFB-4C96-8516-70D9D5BF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EAC88-795A-4E77-AFD6-E249129C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243-C467-43BA-86B0-3BBF0A9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30FA8-3FFB-4D06-9765-3770CA38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560B9-62DF-4C70-99F1-2DE14190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9CE27-9573-4AB5-BC55-8F59D809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FE98D-153E-46D7-A9B9-907B0B7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DAE9E-CEBF-4197-9B10-8BF9CF96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09EA-0C7F-471F-8A40-812E64A3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458B7-DA01-4266-9C67-E2227A26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C61A5-EA43-40EE-A68D-2805D2C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2DB31-2021-428E-8A65-01E06F2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E6A5D-8790-4158-9FBF-A60CF77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3EC-9C0B-4D60-8C57-82DC52ED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716C9-711A-4E23-88B1-35DA6E71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AED7B-FFF1-451E-B9AB-AC9B5C41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78345-F3FC-494F-B65E-5C143A55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2A3E3-E2A1-4CFD-94F7-9FAFD56C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1DBD6-0F32-47BE-B470-58BCF5C6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48B9C-EF1D-4C3F-B90A-4C50CDB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83811-9734-4A4A-915C-BABD769B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9AE17-EA51-4B26-85FE-76589BC6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E176C-FBB9-4F11-8467-FF980A09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9C2C5-6768-46A4-A6B6-87D3716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A028-6D3E-45A1-BDF7-D6E67CD4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43822-04B0-4CB7-8C73-0E6649E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129EB-BC4C-49C0-93E1-3CE658C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AE667-E22C-4F37-9B24-CF35C9F4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E7E2B-EC26-4100-8717-390E4F5C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E901E-A4F0-455B-AB53-1AAC4CAE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193D-6854-468D-B8C2-7A90EE49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CE8-DD5F-4662-99BD-6B32DF67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336-A983-4350-8FF9-39ACB6BE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C4D7-6B35-47F4-9E19-CAA1C7F0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6E4C-1228-402C-8279-A85DA82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C74-05CD-45F1-BAA8-37EF43A4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A56F-8193-464D-844B-BBDFBDD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E667-2919-4285-9364-BFEDCFCA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5079-A47B-4020-9224-C341A35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6077-F5FB-4C2D-867A-F276EE59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D10E-D3B1-4B84-8E60-E16A1CD2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F245-896C-4B84-94C3-138E482A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35EC-1204-4775-A8C6-B818D78D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12F9-FAE3-4B00-AFE3-1819C2A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7D26-9C1C-495A-BF19-F30E412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18E8-4C86-4E01-B331-F5F53359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515-7841-4E88-BFF5-673FD306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B9D2-CF7F-42FB-BD6F-3858FD3F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46E6-3CDC-40F5-A554-6476ECA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9237-D01E-491F-9E33-10AC058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B6AB-1CFF-47EB-A982-B7BEC05C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9437-4CEF-415C-A97C-706640FE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C450-D05D-4046-8BE3-45D65EE8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ECF4-02D4-4E82-9C54-CCBCE87C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299A-4902-4BBD-9B04-A58B4666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9F74-7260-4FCB-8EA5-13BFBBC3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DE81-579F-40F2-98CB-1A138BCA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D6F-A363-4EFD-BAE9-31DD1577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CF30-D134-4665-B1BF-4882E588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D47C-F16F-4660-A103-B20BC63F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3F80-37BE-4499-986A-19C2976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8ABD-69BC-4DAD-BFEF-B3B44662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4F53-3BFC-427E-8683-DCD1C4F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74B5-BA6E-48C2-84CB-91E441D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6C3B-18B4-453B-8961-2FD0872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EA46-3D2C-44F9-9D33-3845CFFF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825C-97AB-4A63-B689-69FF6638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E401-CFB7-4997-959D-BA03C304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EA0-473A-4E32-86D6-5D8ECC8C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0813-47F1-4A1D-952D-793DCB85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AFFB8-542A-449D-A806-E8C353A8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E6692-FBB2-4968-AF24-B03E6787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8F41-9E86-4506-9C59-85CE71D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FD21-65B0-4C41-904A-EDD930E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42378-8BA7-4AF6-B7F3-CD5D5FC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63F65-4CF3-410F-8FCD-20F26D0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8A44-8144-43A6-A2FD-CD64F52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443F-DAB8-48AA-8FF2-C0E32A94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6405-9207-4C7A-B157-60405A0C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D97-E1D9-4DBA-8509-46A68D04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4450-E537-4BD9-AD30-D0E5FD89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1DBC3-178B-4468-973A-6FF46E24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16EA3-1C72-4F5A-B3D5-3377EA9E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FAF9-12CA-43CE-8404-A43D35B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474B3-535E-48A4-95A0-03682F6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1316-6047-4DDB-92C1-46E6C1C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059AC-52F2-41D1-957D-C5E367F8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D49A7-C62B-4EB5-A9B7-7C9E2C54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920D-8D2C-4ABB-A913-6DE5F45C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B8D7-E96C-4F0B-A817-31A91DA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E99-5D67-472B-A90F-D7AD649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101F9-CFDF-4963-BCDD-6E5BD80D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8CA3-EC65-4042-BB88-CAFCD1C2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971F-0128-46B5-8B53-0FC81741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4977C-5C1F-4EA3-9248-AC703D20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392E-7708-4BF7-AF5B-3EAA1EA4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94CE-1C0C-4915-83EE-A186CA50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136A0-52AB-4965-B47A-33D52BE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97BA0-A723-4FCD-91C1-67D8DD7A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759E8-9072-4C57-ADFA-B99D1EF0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6222-F0A6-4314-AE62-77F9016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6C9-0C40-4C5A-A59B-A1EDF228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AAE9-DFAC-4E43-BDBB-05FFDE8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C0CE4-0CA1-4236-A04A-BAE3D2C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EEBEC-3D57-4220-9D84-BE35437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B513-2CAF-466A-8BD9-9A436E5B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B319-3782-44FB-BBAE-290AB732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0B213-1055-43AC-B816-E00EE44F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D7FF8-80EB-4BBE-8FA1-CBF6316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F2091-B1D6-4010-91C7-2CDAC3F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E9393-B756-4073-AB12-6C18A06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E2D17-FA70-45A6-A5E6-065822A0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648-A9EE-43EF-931F-9143E7E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AD71C-40B8-4D56-9993-A6F64D96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17414-813D-48EA-89B4-F7F1A46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D0E8C-9C25-4BD6-87A4-D507BED6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5D2FC-C7AB-4CAD-B933-EF6DB8E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465C-3B5E-41BD-BF8F-978C8336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36BE7-4EEC-4DF1-B79D-23687A7F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A8013-7C60-4D54-8C11-C19C1ADB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2D5C9-36F7-465B-9794-173DB5BF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DFC83-4D4C-4322-AEBB-8BB9DD77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2A1B7-827D-4FFF-A6F7-4393DC59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8B1A-2BED-4F46-B7C0-D1E15EC160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EC83-805E-48FB-94C5-DA65216E9F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EC51-D365-4CB9-889F-9CC6C5150E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FF90-5C2C-4042-B1B8-D7521C744F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64C-A5B8-491E-B57D-C83A2870F8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E89D-D0AD-4634-BD6F-E22F791015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FED9-31D8-44C6-AEE3-464123225F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DD1-9C4C-49DD-98F1-F68D9B3452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E4FE-06BF-44C4-970B-28D9AC4498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1560-42D4-478F-84CD-132763730B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391E-3F05-4D19-9185-D6F23258AC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14AC-DA1C-421C-B9CB-D5CF06557C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38 Na Pána spolieham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Pána spolieham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jeho lásku k 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len v ňom je moja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ňom svoju skrýš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nepokoj mnou zmi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v pomoc dúfa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chráni svoje die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ie zahn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trasti ti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Pastierom je moj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nemusím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ňa stráži okom svoj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ce stále 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vier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, nádej strác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 Ježiš o tom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uňho pomoc hľa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 k sebe privini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 ňom mám zdroj vody živ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j mannu, z neba chlieb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v láske dobroti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a zbaví ťarchy b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esť náleží mu, vďa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e smiem tu preňho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jeho príchod čak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 ním chcem raz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b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09:20Z</dcterms:modified>
  <cp:revision>23</cp:revision>
  <dc:subject/>
  <dc:title>Je veľký náš Pán, on slávy je Kráľ Nech do všetkých strán  spev vrúcnych znie chvál.</dc:title>
</cp:coreProperties>
</file>